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19C8-6D03-463D-B337-35B958B93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36F5-AE2E-4CC1-8168-A58BC70D4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8386-9850-4C41-AA98-F133BE285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CA13-F972-488D-85E1-01679D662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B89FC-63BE-49FF-A712-6F1C8BC86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178EB-ABBE-4E28-A858-8B17D6F2F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0BB6E-7900-442D-A345-4DE3EFD40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7595D-A633-413A-94B8-2DFFC45E8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EA132-3152-49E6-8D92-7FD714C24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4FEB5-8963-4E7A-B2C8-D7F79A2F0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70F50-2D3E-4248-914F-D7879395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7D35-4C99-426C-ACC1-82F87A86C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31C80-BA7B-4682-B9A9-237161D5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A97B1-B22E-4E5B-A2FC-6A199CC4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ED18C-3A38-40FC-9ED8-AEA4148DB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7637E-013C-464E-897B-96E114163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7D106-4083-4939-8220-1D4AF02A2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1134-8F82-4FD8-A55C-8D434162A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34FF-8FAB-4191-AA8A-436C95C52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FC95-C0B5-4354-ACDE-6764A35D4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7DA0-B5FA-4218-A1C0-1E13CEF84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A9FB-D66E-40B0-B44E-F1C79474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F3E1-25AE-4CA8-A80F-1DD203BB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E9E0-1C4F-4E5D-B9FA-69AA882F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EC695-4DCC-43B1-9DD4-F97B7032946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EF845-46E6-4BE6-9679-FAEB8730DBF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958804"/>
                </a:solidFill>
                <a:latin typeface="Times New Roman"/>
              </a:rPr>
              <a:t>Денежная реформа 1947 год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Цель: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 изъятия денежных излишков у насе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В обращение поступили новые банкно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0c6ba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Госбанка СССР достоинством 100, 50, 25 и 10 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0c6ba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Казначейские билеты – 5, 3 и 1 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Старые наличные деньги обменивались на новые по соотношению 10: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"/>
          <p:cNvPicPr/>
          <p:nvPr/>
        </p:nvPicPr>
        <p:blipFill>
          <a:blip r:embed="rId1"/>
          <a:srcRect l="4407" t="0" r="0" b="5657"/>
          <a:stretch/>
        </p:blipFill>
        <p:spPr>
          <a:xfrm>
            <a:off x="971640" y="1628640"/>
            <a:ext cx="3036960" cy="46818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1:13:22Z</dcterms:created>
  <dc:creator>User</dc:creator>
  <dc:description/>
  <dc:language>en-US</dc:language>
  <cp:lastModifiedBy>Admin</cp:lastModifiedBy>
  <dcterms:modified xsi:type="dcterms:W3CDTF">2003-12-31T22:22:28Z</dcterms:modified>
  <cp:revision>36</cp:revision>
  <dc:subject/>
  <dc:title>Денежные реформы России</dc:title>
</cp:coreProperties>
</file>